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F6DF-EDE3-4CF9-9B66-1E097AD0B9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Would squarely address issue raised in 2005 Madison River Communications c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8BF0-4064-4F31-8B79-A59CA3B14B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otal of 36 packages are offered by the 10 IS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stage choice is pairs of ISP and service package, i.e., not just I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8B8E-6B4A-47FB-A18B-AF894F8F83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171360" indent="-17136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8% of UK used mobile as primary internet access in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ld easily perform Hausman-McFadden specification test using the variabilityt in the availability of cable modem serv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16C8-566F-4224-AB44-D2FA7341AC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About 8% of UK used mobile as primary internet ac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6CBC-4691-487C-8BBC-B8270B9108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C515-80FA-4AE6-B408-5B8E8665B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2B38-C382-4C99-8BD1-DCBF2959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2AFA-C810-4D43-9B3F-62078DFB8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B6F2-4D62-48AB-9BDD-1C86CB11F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AD18-767E-47A5-8529-E7EEC989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8BEC-96B9-4A75-9739-04820C75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F813-F9F7-4CA5-8146-618C06D6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CE7E-0612-42A3-8EEA-72EEA913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876F-EB5E-49E2-8F34-834E85F1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B4FC-A326-4ED0-AAF2-DAA08013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62E5-157A-4FAC-ADBB-8644BCEA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CD2B-D9FC-4C31-8EAD-EE3C6C26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1475-3986-4664-8F16-0C5BC1EA39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et Neutrality, Foreclosure and the Fast Lane</a:t>
            </a:r>
            <a:br>
              <a:rPr sz="48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mpirical study of the UK</a:t>
            </a:r>
            <a:br>
              <a:rPr sz="28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Laura Nur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iscussion: Glenn Woro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other counterfactu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low lane for messa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, chat, voice calls” on BT slowed 8↓2 mb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stitution to BT fixed and mobile calling and texting, and away from Voip (e.g., Skype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ds structural model of consumer demand for broadband internet access and content consum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imates using a cross section of UK nationwide consumer-level choice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s two threats to NN in video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lly, a reality check on all the NN modeling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umer choice prob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3130560" y="257184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5548320" y="257796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7824960" y="256716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Straight Arrow Connector 7"/>
          <p:cNvCxnSpPr/>
          <p:nvPr/>
        </p:nvCxnSpPr>
        <p:spPr>
          <a:xfrm flipH="1">
            <a:off x="3379320" y="1819440"/>
            <a:ext cx="2473920" cy="762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Straight Arrow Connector 9"/>
          <p:cNvCxnSpPr/>
          <p:nvPr/>
        </p:nvCxnSpPr>
        <p:spPr>
          <a:xfrm>
            <a:off x="5853240" y="1819080"/>
            <a:ext cx="2134080" cy="748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Straight Arrow Connector 11"/>
          <p:cNvCxnSpPr>
            <a:endCxn id="54" idx="0"/>
          </p:cNvCxnSpPr>
          <p:nvPr/>
        </p:nvCxnSpPr>
        <p:spPr>
          <a:xfrm>
            <a:off x="5852880" y="1819080"/>
            <a:ext cx="1080" cy="759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9" name="TextBox 12"/>
          <p:cNvSpPr/>
          <p:nvPr/>
        </p:nvSpPr>
        <p:spPr>
          <a:xfrm>
            <a:off x="2416320" y="367992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k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4"/>
          <p:cNvSpPr/>
          <p:nvPr/>
        </p:nvSpPr>
        <p:spPr>
          <a:xfrm>
            <a:off x="3687840" y="3676680"/>
            <a:ext cx="94608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k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,n</a:t>
            </a:r>
            <a:r>
              <a:rPr b="0" lang="en-US" sz="1800" spc="-1" strike="noStrike" baseline="-50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Straight Arrow Connector 16"/>
          <p:cNvCxnSpPr/>
          <p:nvPr/>
        </p:nvCxnSpPr>
        <p:spPr>
          <a:xfrm flipH="1">
            <a:off x="2800080" y="2939760"/>
            <a:ext cx="613440" cy="740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Straight Arrow Connector 18"/>
          <p:cNvCxnSpPr/>
          <p:nvPr/>
        </p:nvCxnSpPr>
        <p:spPr>
          <a:xfrm>
            <a:off x="3412800" y="2917440"/>
            <a:ext cx="568800" cy="762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TextBox 20"/>
          <p:cNvSpPr/>
          <p:nvPr/>
        </p:nvSpPr>
        <p:spPr>
          <a:xfrm>
            <a:off x="3147840" y="3554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3"/>
          <p:cNvSpPr/>
          <p:nvPr/>
        </p:nvSpPr>
        <p:spPr>
          <a:xfrm>
            <a:off x="4813200" y="3679920"/>
            <a:ext cx="83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k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j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Straight Arrow Connector 25"/>
          <p:cNvCxnSpPr>
            <a:endCxn id="64" idx="0"/>
          </p:cNvCxnSpPr>
          <p:nvPr/>
        </p:nvCxnSpPr>
        <p:spPr>
          <a:xfrm flipH="1">
            <a:off x="5231520" y="2941200"/>
            <a:ext cx="615240" cy="739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Straight Arrow Connector 26"/>
          <p:cNvCxnSpPr/>
          <p:nvPr/>
        </p:nvCxnSpPr>
        <p:spPr>
          <a:xfrm>
            <a:off x="5846760" y="2917440"/>
            <a:ext cx="567360" cy="762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TextBox 27"/>
          <p:cNvSpPr/>
          <p:nvPr/>
        </p:nvSpPr>
        <p:spPr>
          <a:xfrm>
            <a:off x="5541840" y="36799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34"/>
          <p:cNvSpPr/>
          <p:nvPr/>
        </p:nvSpPr>
        <p:spPr>
          <a:xfrm>
            <a:off x="4960800" y="5029200"/>
            <a:ext cx="45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35"/>
          <p:cNvSpPr/>
          <p:nvPr/>
        </p:nvSpPr>
        <p:spPr>
          <a:xfrm>
            <a:off x="4351320" y="6021360"/>
            <a:ext cx="24224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800" spc="-1" strike="noStrike" baseline="-50000">
                <a:solidFill>
                  <a:srgbClr val="000000"/>
                </a:solidFill>
                <a:latin typeface="Calibri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800" spc="-1" strike="noStrike" baseline="-5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. . .,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800" spc="-1" strike="noStrike" baseline="-50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1800" spc="-1" strike="noStrike" baseline="-76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800" spc="-1" strike="noStrike" baseline="-5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Straight Arrow Connector 37"/>
          <p:cNvCxnSpPr/>
          <p:nvPr/>
        </p:nvCxnSpPr>
        <p:spPr>
          <a:xfrm flipH="1">
            <a:off x="3916080" y="4419720"/>
            <a:ext cx="1180080" cy="592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1" name="Straight Arrow Connector 39"/>
          <p:cNvCxnSpPr/>
          <p:nvPr/>
        </p:nvCxnSpPr>
        <p:spPr>
          <a:xfrm flipH="1">
            <a:off x="5128560" y="4419360"/>
            <a:ext cx="1080" cy="594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" name="Straight Arrow Connector 41"/>
          <p:cNvCxnSpPr/>
          <p:nvPr/>
        </p:nvCxnSpPr>
        <p:spPr>
          <a:xfrm>
            <a:off x="5135040" y="4419720"/>
            <a:ext cx="2001240" cy="630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3" name="TextBox 43"/>
          <p:cNvSpPr/>
          <p:nvPr/>
        </p:nvSpPr>
        <p:spPr>
          <a:xfrm>
            <a:off x="4311720" y="2590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. 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val 44"/>
          <p:cNvSpPr/>
          <p:nvPr/>
        </p:nvSpPr>
        <p:spPr>
          <a:xfrm rot="1795800">
            <a:off x="5028840" y="2314080"/>
            <a:ext cx="914400" cy="19926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45"/>
          <p:cNvSpPr/>
          <p:nvPr/>
        </p:nvSpPr>
        <p:spPr>
          <a:xfrm>
            <a:off x="380880" y="16002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ISP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46"/>
          <p:cNvSpPr/>
          <p:nvPr/>
        </p:nvSpPr>
        <p:spPr>
          <a:xfrm>
            <a:off x="270000" y="4419720"/>
            <a:ext cx="220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Content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48"/>
          <p:cNvSpPr/>
          <p:nvPr/>
        </p:nvSpPr>
        <p:spPr>
          <a:xfrm>
            <a:off x="6134040" y="3741840"/>
            <a:ext cx="94464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k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j,n</a:t>
            </a:r>
            <a:r>
              <a:rPr b="0" lang="en-US" sz="1800" spc="-1" strike="noStrike" baseline="-50000">
                <a:solidFill>
                  <a:srgbClr val="000000"/>
                </a:solidFill>
                <a:latin typeface="Calibri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49"/>
          <p:cNvSpPr/>
          <p:nvPr/>
        </p:nvSpPr>
        <p:spPr>
          <a:xfrm>
            <a:off x="6748560" y="2590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. 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Straight Arrow Connector 2"/>
          <p:cNvCxnSpPr>
            <a:endCxn id="80" idx="0"/>
          </p:cNvCxnSpPr>
          <p:nvPr/>
        </p:nvCxnSpPr>
        <p:spPr>
          <a:xfrm flipH="1">
            <a:off x="1709280" y="1819080"/>
            <a:ext cx="4144320" cy="72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TextBox 3"/>
          <p:cNvSpPr/>
          <p:nvPr/>
        </p:nvSpPr>
        <p:spPr>
          <a:xfrm>
            <a:off x="947880" y="254484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broadb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35"/>
          <p:cNvSpPr/>
          <p:nvPr/>
        </p:nvSpPr>
        <p:spPr>
          <a:xfrm>
            <a:off x="7135920" y="50115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35"/>
          <p:cNvSpPr/>
          <p:nvPr/>
        </p:nvSpPr>
        <p:spPr>
          <a:xfrm>
            <a:off x="3654360" y="504036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Straight Arrow Connector 42"/>
          <p:cNvCxnSpPr/>
          <p:nvPr/>
        </p:nvCxnSpPr>
        <p:spPr>
          <a:xfrm flipH="1">
            <a:off x="3939480" y="5354280"/>
            <a:ext cx="1181880" cy="592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4" name="Straight Arrow Connector 43"/>
          <p:cNvCxnSpPr/>
          <p:nvPr/>
        </p:nvCxnSpPr>
        <p:spPr>
          <a:xfrm flipH="1">
            <a:off x="5152320" y="5354280"/>
            <a:ext cx="1080" cy="594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5" name="Straight Arrow Connector 45"/>
          <p:cNvCxnSpPr/>
          <p:nvPr/>
        </p:nvCxnSpPr>
        <p:spPr>
          <a:xfrm>
            <a:off x="5159520" y="5354280"/>
            <a:ext cx="1334160" cy="594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Straight Arrow Connector 46"/>
          <p:cNvCxnSpPr/>
          <p:nvPr/>
        </p:nvCxnSpPr>
        <p:spPr>
          <a:xfrm flipH="1">
            <a:off x="2734920" y="4419720"/>
            <a:ext cx="2386800" cy="592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7" name="TextBox 35"/>
          <p:cNvSpPr/>
          <p:nvPr/>
        </p:nvSpPr>
        <p:spPr>
          <a:xfrm>
            <a:off x="2575080" y="5049720"/>
            <a:ext cx="4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49"/>
          <p:cNvSpPr/>
          <p:nvPr/>
        </p:nvSpPr>
        <p:spPr>
          <a:xfrm>
            <a:off x="5883120" y="49528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. 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oice model spec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P altern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tside option is no internet + dialup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also varies with cable/satellite TV subcri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mobile broadband alterna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P-package-content combina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gs for nested log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uld provide robustness test of I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uld identify differences in substitution across ISPs, packages, contents (e.g., BT vs. LLU vs. bitstrea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specific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ent combin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tside op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speed coefficient for all vide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tzkow spec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Calibri"/>
              </a:rPr>
              <a:t>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k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&gt; (&lt;) 0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ntents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e complements (substitut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ends to more than two option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re are correlations of errors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esti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-step estimation of two stag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P subscription adjusts much slower than content cho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uld instrument for endogenous ISP pr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nterfactual: YouTube fast l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ion assum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Tube’s speed on BT increases 8↑20 mb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other ISP-package pairs are unchang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n’t bitstream providers also be fast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umers adjust both ISP and content combo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lds chosen number of contents fix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Net increase in YouTube ads, ISP revenues and consumer surpl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nterfactual: YouTube fast l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ternative scenar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 in cost to BT of YouTube’s fast la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Tube might strike deals with other IS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 video CPs could strike similar deals with B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8240" y="22824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nterfactual: Catch-up TV slow l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ion assum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tch-up TV’s speed on BT falls 8↓2 mb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umers substitute a bit of YouTube for much Catch-up T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Net reduction in consumer surpl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ternative scenar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stitution to Live TV or movie downloads (e.g., Netflix subscriptio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T vertically integrated into favored content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3T05:52:37Z</dcterms:created>
  <dc:creator>Woroch, Glenn</dc:creator>
  <dc:description/>
  <dc:language>en-US</dc:language>
  <cp:lastModifiedBy>Woroch, Glenn</cp:lastModifiedBy>
  <cp:lastPrinted>2013-06-05T00:46:49Z</cp:lastPrinted>
  <dcterms:modified xsi:type="dcterms:W3CDTF">2013-06-06T23:50:25Z</dcterms:modified>
  <cp:revision>58</cp:revision>
  <dc:subject/>
  <dc:title>Net Neutrality, Foreclosure and the Fast Lane An empirical study of the UK by Laura Nurski</dc:title>
</cp:coreProperties>
</file>