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0D7F-F8BE-43CE-AC0D-79F74B031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examines the monopoly seller’s optimal selling and leasing strategy for a special type of durable good – software, where network externalities are present. It uses a two period model. the monopolist offers a software in period 1, and an upgraded version in period two. Under pure selling, the consumers face the option of buy or not buy the software; if they bought the software, then whether upgrade or not in period 2. Under pure leasing, the consumer either commit to a two period lease or not lease the software at all. The hybrid model is a mix of the two pric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amines 4 cases. The first two cases study the monopolist’s optimal pricing strategy when there is not network effects. The results are consistent with the classical durable goods pricing results. When the monopolist can commit to the future software selling price, pure selling, pure leasing and the hybrid pricing models are equally profitable, and leads to the same consumer surplus and social welfare. When this selling price commitment is not possible, on the other hand, pure leasing helps the monopolist with the commitment problem, hence leads to a higher profit than the hybrid pricing model and pure sell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etwork effect is present, under leasing the monopolist is not able to benefit from the extra value created through network externality in the 2</a:t>
            </a:r>
            <a:r>
              <a:rPr b="0" lang="en-US" sz="1200" spc="-1" strike="noStrike" baseline="30000">
                <a:solidFill>
                  <a:srgbClr val="000000"/>
                </a:solidFill>
                <a:latin typeface="Arial"/>
              </a:rPr>
              <a:t>nd</a:t>
            </a:r>
            <a:r>
              <a:rPr b="0" lang="en-US" sz="1200" spc="-1" strike="noStrike">
                <a:solidFill>
                  <a:srgbClr val="000000"/>
                </a:solidFill>
                <a:latin typeface="Arial"/>
              </a:rPr>
              <a:t> period. As a result, with commitment, selling and the hybrid pricing model are equally profitable, and both are strictly more profitable than lea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mitment, the results are mixed depending on the parameters. When network effect is significant, the hybrid pricing model can be more profitable than both selling and leas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ble goods pricing + Network effects: this paper examines a classical durable pricing problem in the context of software market, where network effect is significant. Prior work by for example Nick, has shown that when network externality is present, software selling price could go up over time, contrary to Coase conjecture’s prediction. Built on these early work, partially inspired by the recent adoption of subscription-based pricing in the software market, this paper goes one step further, and examines the seller’s optimal pricing strategy among selling, leasing, and the hybrid pric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results: The study uses a simple model, a clear comparison among 4 cases to illustrate how network effects and the monopolist’s ability to commit to future selling prices impact the its optimal pricing strategy. It finds that when network effect is significant, the hybrid pricing model is opt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for software pricing strategy depending on network effects and the monopolist’s ability to commit to future prices: the model suggest the software sellers use concurrent selling and leasing to segment the market when network effects is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to future leasing price: the model has assumed that the monopolist can commit to future leasing prices. This makes leasing a special case of committed selling where the two periods’ selling prices are constrained to be the same. While in the traditional durable goods pricing model, the advantage of leasing over selling is that the monopolist can achieve a higher profit without commitment. This assumption could potentially make the results here not comparable to those of the prior studies. It would be interesting to see what would happen without this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dynamics: If the model aims at capture the dynamics of the pricing strategies in the software market over time, one may want to think about whether a two period model with a fixed pool of customers is a good way of modeling this phenomena. For example, in a two period model, offering selling in period one and the hybrid pricing model in period two is equivalent to pure selling in two peri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mprovement of the future version: The model has treated quality improvement of the future version as exogenous. In reality, this is also a decision variable. We have seen firms failed to deliver the promised functionalities, or incur huge delay in delivering the next version of the software. One interesting extension of the model would be to include the quality variable as endoge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ary services sales: is also something one could consider as an extension to the current model. complementary services sales is becoming an important source of revenue for many large software vendors. We’ve seen a lot of them passing the 50-50 ratio where the revenue from on-going maintenance services represents more than 50% of the company’s reven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based licensing versus Software-as-a-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want to be careful connecting the results here with the recent surge of selling Software as a service. Subscription based pricing is a licensing/payment schedule, which does not require delivering the software over the internet. In other words, the software sellers could offer subscription based licensing even before internet. The interesting question to ask here is why we see the rising adoption of this new pricing strateg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846189-3050-4B67-908D-EA8E458BE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D0ECBD-A3F3-4E04-B6E8-755DA951B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03242E-745D-469A-98F6-B6DE27773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EC5D12-20D7-446B-A384-AE64F46C2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1E703-E1CA-43B4-AE05-817EC9C1F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208B4-EADD-4BB2-B55F-1F7D6CC86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327DC-0CAB-4069-8CED-A2F32038D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2B3A4-3572-4B3D-8B70-E42C56BB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1B08C-551A-479D-8E02-D51EF6FBA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36D62-8605-421B-9DCB-960961EE2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C862E-5EAC-4931-9FE0-904C6FE3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5C9FF7-1034-4B1B-91CE-615A6C24B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122F-62BD-4402-A7FB-06BDF2B09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71387-D2BE-422B-940C-A8DA7AD26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3E057-9739-4AD3-A358-9A5872C0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E4739-334F-48E5-AB58-3336CEBE9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D55C9-3E01-47B2-8BEF-FDF74D5A4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74507D-CF61-49D0-A553-18D13158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A1CDF1-D57C-4E3F-B3FA-E6C59DB1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071635-0890-44E6-87BF-59F9F65B5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9F41CC-2097-43BC-8F01-E4B97DF8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82AE3A-6DFD-437D-B399-B53156072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A0EE3F-6AB5-4E35-A43C-9D5663F15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3C762E-6A30-4039-B4B6-A753F772C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3F12-5982-4EC7-B565-4BE30B255D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C44E-E322-4D11-ABC3-F322962F20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739800"/>
            <a:ext cx="861048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lling and Leasing Software with Network Externalities</a:t>
            </a:r>
            <a:endParaRPr b="1" lang="en-US" sz="4000" spc="-1" strike="noStrike">
              <a:solidFill>
                <a:srgbClr val="e5e5ff"/>
              </a:solidFill>
              <a:latin typeface="Garamond"/>
            </a:endParaRPr>
          </a:p>
        </p:txBody>
      </p:sp>
      <p:sp>
        <p:nvSpPr>
          <p:cNvPr id="108" name="PlaceHolder 2"/>
          <p:cNvSpPr>
            <a:spLocks noGrp="1"/>
          </p:cNvSpPr>
          <p:nvPr>
            <p:ph type="subTitle"/>
          </p:nvPr>
        </p:nvSpPr>
        <p:spPr>
          <a:xfrm>
            <a:off x="1142640" y="3733920"/>
            <a:ext cx="7010280" cy="25905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hors: </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ennifer Zhang, and Abraham Seidmann </a:t>
            </a:r>
            <a:endParaRPr b="0" lang="en-US" sz="2800" spc="-1" strike="noStrike">
              <a:solidFill>
                <a:srgbClr val="ffffff"/>
              </a:solidFill>
              <a:latin typeface="Garamond"/>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ant: Mingdi Xin</a:t>
            </a:r>
            <a:endParaRPr b="0" lang="en-US" sz="2800" spc="-1" strike="noStrike">
              <a:solidFill>
                <a:srgbClr val="ffffff"/>
              </a:solidFill>
              <a:latin typeface="Garamond"/>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toral Candidate</a:t>
            </a:r>
            <a:endParaRPr b="0" lang="en-US" sz="2800" spc="-1" strike="noStrike">
              <a:solidFill>
                <a:srgbClr val="ffffff"/>
              </a:solidFill>
              <a:latin typeface="Garamond"/>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n School of Business, NY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 of the Paper</a:t>
            </a:r>
            <a:endParaRPr b="1" lang="en-US" sz="4400" spc="-1" strike="noStrike">
              <a:solidFill>
                <a:srgbClr val="e5e5ff"/>
              </a:solidFill>
              <a:latin typeface="Garamond"/>
            </a:endParaRPr>
          </a:p>
        </p:txBody>
      </p:sp>
      <p:sp>
        <p:nvSpPr>
          <p:cNvPr id="11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out a network effec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 Commitm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re selling, pure leasing and the hybrid pricing model are equivalent</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out commitm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itability: Leasing &gt; Hybrid &gt; Sellin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surplus and social welfar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ling &gt; Hybrid &gt; Leasing</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ingdi Xin      Stern School of Busines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 of the Paper</a:t>
            </a:r>
            <a:endParaRPr b="1" lang="en-US" sz="4400" spc="-1" strike="noStrike">
              <a:solidFill>
                <a:srgbClr val="e5e5ff"/>
              </a:solidFill>
              <a:latin typeface="Garamond"/>
            </a:endParaRPr>
          </a:p>
        </p:txBody>
      </p:sp>
      <p:sp>
        <p:nvSpPr>
          <p:cNvPr id="11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 a network effec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 Commitm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itability: Selling = Hybrid&gt; Leasing</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surplus and social welfar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ling = Hybrid &gt; Leasing</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out commitmen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network externality is significant, the hybrid pricing model can be more profitable than both leasing and selling.</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Mingdi Xin      Stern School of Busines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rength</a:t>
            </a:r>
            <a:endParaRPr b="1" lang="en-US" sz="4400" spc="-1" strike="noStrike">
              <a:solidFill>
                <a:srgbClr val="e5e5ff"/>
              </a:solidFill>
              <a:latin typeface="Garamond"/>
            </a:endParaRPr>
          </a:p>
        </p:txBody>
      </p:sp>
      <p:sp>
        <p:nvSpPr>
          <p:cNvPr id="114"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able goods pricing + Network effec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 resul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ybrid pricing model is optimal when network effect is significant.</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s for software pri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y well-written</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Mingdi Xin      Stern School of Busines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ggestions</a:t>
            </a:r>
            <a:endParaRPr b="1" lang="en-US" sz="4400" spc="-1" strike="noStrike">
              <a:solidFill>
                <a:srgbClr val="e5e5ff"/>
              </a:solidFill>
              <a:latin typeface="Garamond"/>
            </a:endParaRPr>
          </a:p>
        </p:txBody>
      </p:sp>
      <p:sp>
        <p:nvSpPr>
          <p:cNvPr id="11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itment to future leasing pri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ing dynam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ality improvement of the future ver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lementary services sal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scription-based licensing versus Software-as-a-Service</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Mingdi Xin      Stern School of Busines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21:29:58Z</dcterms:created>
  <dc:creator>mxin</dc:creator>
  <dc:description/>
  <dc:language>en-US</dc:language>
  <cp:lastModifiedBy>lluser</cp:lastModifiedBy>
  <dcterms:modified xsi:type="dcterms:W3CDTF">2007-04-20T18:17:39Z</dcterms:modified>
  <cp:revision>32</cp:revision>
  <dc:subject/>
  <dc:title>The Effect of P2P File Sharing on Music Markets: A Survival Analysis of Albums on Ranking Charts</dc:title>
</cp:coreProperties>
</file>